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D71FE6-20EB-445B-B884-1895A97166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820C5-A026-4941-B93F-A50B7BC59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4CA139-D6A2-49E3-BF1C-568183E3B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5E3BF7-7174-4774-9C95-FA01206F40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AD97A-9887-4D09-A11F-5F4C12EE1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9FDC4-46F0-457A-B55E-5F3356498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79D0B-E959-45CF-BB8D-B31914A43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1DAB9-D43D-4246-8597-2DB665D92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3EDCF-A795-409D-9101-48A014FE5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78A6E-B376-4DB7-BCE1-DC4EF6DD5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C5254-2967-4B4B-89C4-26C5C0048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01481-B0FB-4BC5-BE88-D3DDDBD12F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1D370E-CDB9-4B44-802E-21C815E1D310}"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B3B91D-4E59-435F-9258-462478FAE62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ctators Rising</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Mr. Rush</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o Musk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GT Warmup</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200" spc="-1" strike="noStrike">
                <a:solidFill>
                  <a:srgbClr val="000000"/>
                </a:solidFill>
                <a:latin typeface="Calibri"/>
              </a:rPr>
              <a:t>The Weimar Republic was established in Germany following World War I. An important factor leading to the collapse of the Weimar Republic and the rise of Nazi dictatorship that took Germany into World War II was</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 Germany’s resentment of U.S. involvement in European affairs.</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B.  the rise of independence movements in Germany’s overseas colonies.</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 Germany’s failure to rebuild its armed forces following World War I.</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D.  the economic burden of war reparations (payments) to Germany’s former enem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we will do Today</a:t>
            </a:r>
            <a:endParaRPr b="0" lang="en-US" sz="4400" spc="-1" strike="noStrike">
              <a:solidFill>
                <a:srgbClr val="000000"/>
              </a:solidFill>
              <a:latin typeface="Calibri"/>
            </a:endParaRPr>
          </a:p>
        </p:txBody>
      </p:sp>
      <p:sp>
        <p:nvSpPr>
          <p:cNvPr id="46"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What we will do today</a:t>
            </a:r>
            <a:endParaRPr b="0" lang="en-US" sz="2400" spc="-1" strike="noStrike">
              <a:solidFill>
                <a:srgbClr val="000000"/>
              </a:solidFill>
              <a:latin typeface="Calibri"/>
            </a:endParaRPr>
          </a:p>
        </p:txBody>
      </p:sp>
      <p:sp>
        <p:nvSpPr>
          <p:cNvPr id="47"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GT Warmup</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ise of Mussolini, Stalin and Hitle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mpare and Contras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Objectives</a:t>
            </a:r>
            <a:endParaRPr b="0" lang="en-US" sz="2400" spc="-1" strike="noStrike">
              <a:solidFill>
                <a:srgbClr val="000000"/>
              </a:solidFill>
              <a:latin typeface="Calibri"/>
            </a:endParaRPr>
          </a:p>
        </p:txBody>
      </p:sp>
      <p:sp>
        <p:nvSpPr>
          <p:cNvPr id="49"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nalyze the purposes, structures and functions of dictatorshi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GT Question</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y a dict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was happening in German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was happening throughout the world? Page 41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erms</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___ Fascis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___ Totalitarianis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___ Communis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___ Nazi</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___  Anti-Semitis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X= Know</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kind of know</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 don’t know</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did these dictators </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solin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l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itl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7T10:02:51Z</dcterms:created>
  <dc:creator>Craig Rush</dc:creator>
  <dc:description/>
  <dc:language>en-US</dc:language>
  <cp:lastModifiedBy>Craig Rush</cp:lastModifiedBy>
  <dcterms:modified xsi:type="dcterms:W3CDTF">2011-12-02T13:51:09Z</dcterms:modified>
  <cp:revision>2</cp:revision>
  <dc:subject/>
  <dc:title>Dictators Rising</dc:title>
</cp:coreProperties>
</file>